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D93-7B32-4B64-B768-EFEBDBE9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3DA-1116-4E18-9826-5F6E2C05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A95-E8C6-4B2C-8C08-439A38E9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CD-F241-4605-AB34-452C2BF9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D1FC-85B2-40F6-BE60-2DE39E1F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BA4C-42AE-4ADD-8D5E-BCBE72C8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3C4-10AA-4FFD-97F9-C753E2F5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046C-E7CE-42B7-B4FC-39BA881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840-D2E2-495D-B15C-2A16563A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AAF-E48E-4C95-96E1-1CE5AA2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6415-3D40-4B4B-BCD3-2D3E282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041-7DFF-4A8A-869A-50CDFE7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093B-89E6-4C95-99F8-857C469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9D3A-4451-4A85-B564-2B90D6F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ABF3-CE24-4BCD-BD1C-61DA7E15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3CC1-8BC4-402E-9BB3-3649CD0B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FB56-8F6D-4EE4-8885-E254E63F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790-768B-4566-A38D-7FFF7551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784-5CA0-4961-B834-6142984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7DC-B6AB-4BFC-952A-82625FA8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4D9-991D-4082-B967-C532590D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9A9-FFC5-44F1-AE40-0431925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8F8-25FF-4E16-B04F-2C2B1762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B0-BE07-4EB3-9EA7-57D4DFF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CBF-A3C1-4F3D-996B-F2D9F965B9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4DF4-CC1E-4E21-AADC-E39DB8DB32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f the gravitational attraction of two objects is 100 N.  What would it be if the distance between them were doubled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3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would the force be if the distance is cut in half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365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f each mass is doubled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81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5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G??????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4280" y="1827360"/>
            <a:ext cx="395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nry Cavendis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two large and two small lead sphe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nd the value of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.67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-1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nd mass of th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225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e the mass of the Ear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886200"/>
                <a:ext cx="86868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8</m:t>
                                </m:r>
                                <m:r>
                                  <m:t xml:space="preserve">x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981080"/>
                <a:ext cx="396252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eleration due to gra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thing experiencing a net force will acceler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bjects on the earth are experiencing a gravitational force from the earth, and they are all the same distance from the center of the earth (radius of the earth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ss of the earth does not chan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24080" y="152280"/>
                <a:ext cx="26672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3880" y="2057400"/>
                <a:ext cx="388620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57280" y="3733920"/>
                <a:ext cx="787536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hat is the gravitation force on a person with a mass of 75 kg by the earth if they are 6378 km apart?  (M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5.97*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g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34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3400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34*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34*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59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is one earth’s radius above the earth.  How does it’s acceleration compare to that on the surface of the earth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¼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½ 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66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upiter is 300 times as massive as the earth and has a radius of 10 times that of the earth.  Estimate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on Jupiter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0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0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73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directly proportional to B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1964880"/>
            <a:ext cx="3657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locity of satelli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827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tellites experience a gravitational for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force is the centripetal for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52480" y="2362320"/>
                <a:ext cx="1600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010280" y="3124080"/>
                <a:ext cx="16002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520" y="4495680"/>
                <a:ext cx="259056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952880" y="4495680"/>
                <a:ext cx="198144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81280" y="4800600"/>
                <a:ext cx="838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obits the earth 225 km above the surface.  What is the satellite’s speed? (mass earth 5.97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g, radius of earth 6.38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3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7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/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87" name="RCOut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>
                    <a:alpha val="6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CInner" hidden="1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7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ow far above the earth’s surface is a satellite that is moving with a speed of 2.7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m/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8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8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 satellite moving at a constant speed of 8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m/s, is 200 km from the earth’s surface.  What is the mass of the satellit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7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don’t know because I can’t calculate 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84582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To calculate the mass of an unknown planet, a satellite is sent into orbit around it at a distance of 3.45x10</a:t>
            </a:r>
            <a:r>
              <a:rPr b="0" lang="en-US" sz="2200" spc="-1" strike="noStrike" baseline="30000">
                <a:solidFill>
                  <a:srgbClr val="006666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 m from its center.  If the satellite is moving at a speed of 3.74x10</a:t>
            </a:r>
            <a:r>
              <a:rPr b="0" lang="en-US" sz="2200" spc="-1" strike="noStrike" baseline="30000">
                <a:solidFill>
                  <a:srgbClr val="006666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6666"/>
                </a:solidFill>
                <a:latin typeface="Arial"/>
              </a:rPr>
              <a:t> m/s, what is the mass of the planet?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9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2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25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69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om has a mass of 70 kg, Sally has a mass of 50 kg.  Tom and Sally are standing on a dance floor 20 m apart.  Sally looks up and sees Tom.  She feels an attraction.  Assuming it is gravitational, find the attraction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1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17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74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8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62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84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1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5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wo particles of equal mass are 1 m apart and attract each other with a gravitational force of 5.54x10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-71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N.  What is the mass of each particl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73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29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11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81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0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46x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-3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2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Two spheres are placed so that their centers are 2.6 m apart.  If the gravitational force of a attraction between them is 2.75x10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N, what is the mass of each sphere if one is twice the mass of the other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37;0.74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23;0.46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27;0.55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0.14;0.27 k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9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99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direct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inverse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in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f it is known that A is inversely proportional to B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, how would A change if B is decreased by a factor of 2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by a factor of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ortion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rect propor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rse propor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rse square la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52920" y="2381400"/>
                <a:ext cx="101592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52920" y="3419640"/>
                <a:ext cx="12859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4952880"/>
                <a:ext cx="16765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objects fall towards the earth they acceler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alileo found objects accelerate toward the earth at the same rate regardless of their ma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ton observed that planets experience a force on them due to the s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 saw that this force varied inversely with the square of the distance between the planet and the s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 also observed that an apple’s acceleration in free fall agreed with th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37000" y="3500280"/>
                <a:ext cx="11113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91120" y="5181480"/>
                <a:ext cx="1295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rce the earth exerts on the apple is equal to the force the apple exerts on the eart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attraction of two objects must be proportional to the objects’ mass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known as a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avitational for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ton felt this would work anywhere in the univer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leads to a universal law that objects attract other objects with a force proportional to their masses and inversely proportional to the distance between t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Newton’s Law of Universal Gravit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71800" y="1600200"/>
                <a:ext cx="32767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304920" y="3276720"/>
          <a:ext cx="8458200" cy="3139920"/>
        </p:xfrm>
        <a:graphic>
          <a:graphicData uri="http://schemas.openxmlformats.org/drawingml/2006/table">
            <a:tbl>
              <a:tblPr/>
              <a:tblGrid>
                <a:gridCol w="2114280"/>
                <a:gridCol w="2114640"/>
                <a:gridCol w="2114640"/>
                <a:gridCol w="211464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ng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14400" y="4572000"/>
                <a:ext cx="880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4400" y="5791320"/>
                <a:ext cx="762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2120" y="5181480"/>
                <a:ext cx="1218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3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3886200"/>
                <a:ext cx="1067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1480" y="4572000"/>
                <a:ext cx="5335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3886200"/>
                <a:ext cx="609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257800" y="5105520"/>
                <a:ext cx="420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02080" y="5791320"/>
                <a:ext cx="354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16:33Z</dcterms:created>
  <dc:creator>End User</dc:creator>
  <dc:description/>
  <dc:language>en-US</dc:language>
  <cp:lastModifiedBy>End User</cp:lastModifiedBy>
  <dcterms:modified xsi:type="dcterms:W3CDTF">2008-04-22T18:04:49Z</dcterms:modified>
  <cp:revision>28</cp:revision>
  <dc:subject/>
  <dc:title>Slide 1</dc:title>
</cp:coreProperties>
</file>